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460-22CD-4B20-B0D5-93357B19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2CC-8992-4F67-A6D5-612B273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6B0-9FA8-41B9-8B80-50859CED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6E9-3A0F-4255-B75E-0017734B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587-9B70-4A15-9BFE-3EFA50F8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97D-C1BA-4380-A604-7B11D68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01D-8690-4335-A0C7-41E3951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A8B-852C-46E1-A4D8-70CDB59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44C-8692-4D50-8240-1542249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EFE-8D89-4A62-961C-3D309A0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65E-354C-4009-9734-B9E64B6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70D-A9F6-405E-A0F9-C687402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E17-62A2-4129-82BC-516A8386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Times New Roman"/>
              </a:rPr>
              <a:t>NLP</a:t>
            </a:r>
            <a:endParaRPr b="0" lang="en-US" sz="9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stehung und Grundannah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3276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ht die Absicht, sondern Resultate zäh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27672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nter jedem Verhalten steckt eine positive Abs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2767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es Verhalten ist zumindest bei einer Gelegenheit nützl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276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 Verhaltensänderungen sind die Nebenwirkungen zu beach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276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einfach wie möglich, so komplex wie nöt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276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rper und Geist beeinflussen sich wechselseit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276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usstsein und Unterbewusstsein spielen im selben Te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27672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Bewusstsein ist in seiner Kapazität begrenz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9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???????????????????????????????????????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6668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AG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hemenbereiche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0574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ist N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 Entstehungsgeschichte von N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ndthesen des N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Was ist NLP?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“ steht für N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“ steht für Linguist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0292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“ steht für Programm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Entstehungsgeschichte des NLP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Gri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sor für Lingu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Band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der Informa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stalt-Therape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038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zept des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s Geheimnis der großen Kommunikato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276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r lernen durch Vor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276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Landkarte ist nicht das Gebi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200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r wählen steht's das beste Verhalten aus, das uns im Moment verfügbar i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2767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Echo in den Bergen wird sich nur ändern, wenn der Rufer flexibel i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rundthesen des N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276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 als Werkzeug nur den Hammer kennt, für den muss jedes Problem ein Nagel s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6:22:24Z</dcterms:created>
  <dc:creator>effendy</dc:creator>
  <dc:description/>
  <dc:language>en-US</dc:language>
  <cp:lastModifiedBy>effendy</cp:lastModifiedBy>
  <dcterms:modified xsi:type="dcterms:W3CDTF">2002-03-20T14:38:57Z</dcterms:modified>
  <cp:revision>6</cp:revision>
  <dc:subject/>
  <dc:title>NLP</dc:title>
</cp:coreProperties>
</file>